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9D2-A697-4D48-92E9-16167103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79B-99C0-4D07-91AD-83F8C364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D73-5F52-4B6E-B9EE-275D6817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796-6583-407F-9D99-53C1F016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357A-EECF-44D6-BB58-5A54CB95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3C82-4AF6-48CA-9452-D7C76467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01F1-12BC-43F2-969D-17710C4F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CAF1-B9B9-435D-8020-6990834D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A686-66A3-4EE1-A0FC-67F92F8B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F334-DBA3-4AC6-8E15-B14EEEE7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377A-1D66-4FA9-A489-87D05C7D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D93-5CE1-483D-B444-4928B3AE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631C-3E7F-4DCF-89E2-3A24B4D2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F7ED-A209-4910-BABC-EE686ABA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8977-8945-4630-8D09-56E8A6F6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6BD1-3CAF-4D44-A897-EEE37C6A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F0D4-A464-4884-9757-B1781D73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15A-0614-4FFA-AE1D-6A054048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9484-6285-43B0-9A6D-829BA8CD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26F-88BE-4C67-9BF6-CF35C42E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1D2-5789-4406-8283-18655E93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2F5-4EEA-40F6-9C23-D75EBD44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4C4-76DD-44D8-8AA9-0F798157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DEE-067B-431E-9B9C-59D134C3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E91E-DD5F-4A8B-8026-7A30C4695798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4943-D9C3-408B-8D86-013B54522915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330033"/>
                </a:solidFill>
                <a:latin typeface="Times New Roman"/>
              </a:rPr>
              <a:t>PSICHIKOS SAMPRATA: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, SĄMONĖ,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NARKOTIKAI IR SĄMONĖ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aktyvios medžiagos (pagal poveikį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timuliuoj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iką slopinanč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haliucinoge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RIKLAUSOMYBĖ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liguistas potraukis vartoti narkotines medžiagas komforto būklei pasiek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FIZINĖ PRIKLAUSOMYB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- viso organizmo funkcinės veiklos pakitimas, pasireiškiantis ryškiais psichiniais ir fiziniais sutrikimais, staiga nustojus vartoti narkotik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IKLAUSOMYBĖS VYSTYMOSI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ominuoja euforizuojantis poveikis, negatyvūs padariniai neįvertinam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Narkotikų veikiamas asmuo jaučia laisvę nuo baimės ir padidėjusį savigarbos jausm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Teigiamas narkotikų poveikis iš lėto mažėja, norint pasiekti tą patį poveikį reikia didinti doz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oblemos neigiamos. Atminties, dėmesio sutrikim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iklausomybės fazėje atsiranda smarkus dozės didinimas, kontrolės praradimas, santykių nutraukimas ir profesinio lygio smukima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Chroniškoje nykimo stadijoje aiškiai suprastėja narkotikų įsisavinimas. To pagrindas – prasidedantis organų pažeid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Žmogaus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ik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— tai daugybės tikrovės atspindėjimo ir žmogaus elgsenos reguliavimo reiškinių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uma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: sąmonė ir pasąmon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 apibrėžiama kaip nuolatinis minčių, jausmų ir suvokimų srautas, kurį protarpiais įsisąmoniname (atrankinis dėmesy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ąmonės būsenos: budri ir pakitusios sąmonės būse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ukelti sąmonės pokyč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kų sukeltos būse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iego kategorijos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M (Rapid eye mov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lus mie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MONĖS BŪSENOS (I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as ir sapnai. Miego faz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Atsipalaidavimo būsenoje, tačiau dar būdraujant, smegenų elektrinės bangos vadinamos alfa bangomi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ukrenta širdies dažnis, temperatūra, spaudimas. Bangose išryškėja </a:t>
            </a:r>
            <a:r>
              <a:rPr b="0" i="1" lang="lt-LT" sz="2300" spc="-1" strike="noStrike">
                <a:solidFill>
                  <a:srgbClr val="000000"/>
                </a:solidFill>
                <a:latin typeface="Arial"/>
              </a:rPr>
              <a:t>miego verpstė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Pereinamoji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Giliojo miego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REM (rapid eyes movements) fazė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Miego stadijų kaita nakties metu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2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iego sutriki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emig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rkolepsi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iego apnėj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Naktinis siaub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akitusios sąmonės būsen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di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ipno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rkotinių medžiagų sukelti pokyč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20:42:46Z</dcterms:created>
  <dc:creator>TADAS</dc:creator>
  <dc:description/>
  <dc:language>en-US</dc:language>
  <cp:lastModifiedBy> </cp:lastModifiedBy>
  <dcterms:modified xsi:type="dcterms:W3CDTF">2007-08-30T15:15:34Z</dcterms:modified>
  <cp:revision>12</cp:revision>
  <dc:subject/>
  <dc:title>Slide 1</dc:title>
</cp:coreProperties>
</file>